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C50-508A-4ECE-B16D-25FB60BD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1B6-1E54-43A3-B791-8D1374E6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171-B3DF-4287-8598-66E719EF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D10-2E3E-45BB-83DF-C616BA1F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31C-B3C7-4C54-93A3-66F3A312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DF1-105C-427A-9CE4-259B3A15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A1D-5D88-492C-A305-D74E9435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830-7A09-43F1-B88C-66E7680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B74-77D1-42A8-92D8-32290D87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623-E7E4-46AE-805A-41668AB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695-A26D-486C-921E-04CE8B0D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31C-85A4-440D-87E3-BC58E232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3700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7E14-43F1-4F45-978D-6079F908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з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76200" y="-28440"/>
            <a:ext cx="837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Ф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П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систем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ллектуальный анализ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729480" y="655308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5514-BB4A-4E63-A5E7-A29B4432F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актикум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льные метод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знавания и прогноз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003560"/>
            <a:ext cx="640080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адк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ир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в обучения по прецеден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зуализация матр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г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создание матриц в разделяемой памяти</a:t>
            </a:r>
            <a:r>
              <a:rPr b="0" lang="en-US" sz="1600" spc="-1" strike="noStrike">
                <a:solidFill>
                  <a:srgbClr val="00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с заданным именем и заданного объёма в бай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Index sz(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Data   (MA_DOUBLE, sz[L][2]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, L"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Test.Data",   1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0000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Weight (MA_DOUBLE, sz[L]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,    L"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Test.Weight",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 5000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Target (MA_DOUBLE, sz[L]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,    L"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0" lang="ru-RU" sz="1600" spc="-1" strike="noStrike">
                <a:solidFill>
                  <a:srgbClr val="cc0000"/>
                </a:solidFill>
                <a:latin typeface="Lucida Console"/>
              </a:rPr>
              <a:t>Test.Target",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 5000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г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ём текстовый файл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Menu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ректории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SharedMatrixVi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Folder: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Matri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x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 Матрицы тестового проекта 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SharedMatrix: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Test.Data  Матрица объекты-признаки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SharedMatrix: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Test.Weight Вектор весов 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SharedMatrix:</a:t>
            </a:r>
            <a:r>
              <a:rPr b="1" lang="en-US" sz="1400" spc="-1" strike="noStrike">
                <a:solidFill>
                  <a:srgbClr val="cc0000"/>
                </a:solidFill>
                <a:latin typeface="Lucida Console"/>
              </a:rPr>
              <a:t>My</a:t>
            </a:r>
            <a:r>
              <a:rPr b="1" lang="ru-RU" sz="1400" spc="-1" strike="noStrike">
                <a:solidFill>
                  <a:srgbClr val="cc0000"/>
                </a:solidFill>
                <a:latin typeface="Lucida Console"/>
              </a:rPr>
              <a:t>Test.Target Целевой вектор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г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аем нашу программу (предположим,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MyTest.ex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аем </a:t>
            </a:r>
            <a:r>
              <a:rPr b="0" lang="en-US" sz="1600" spc="-1" strike="noStrike">
                <a:solidFill>
                  <a:srgbClr val="cc0000"/>
                </a:solidFill>
                <a:latin typeface="Lucida Console"/>
              </a:rPr>
              <a:t>SharedMatrixView.exe MyMenu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зуализация матр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33600" y="1844640"/>
            <a:ext cx="60768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ерация модельных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инициализация данных - случайная двумерная выборка из дву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for (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int 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i=0; i&lt;L; i++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ouble p1 = rand() / double(RAND_MAX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ouble p2 = rand() / double(RAND_MAX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номер класса (априорные вероятности классов = 0.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int y = rand() % 2;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генерация точки класса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switch (y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ase 0: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класс 0 – широкий, с центром в (0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,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ata[i][0] = -log (1/p1-1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ata[i][1] = -log (1/p2-1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break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ase 1: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класс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– узкий, с центром в (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1,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ata[i][0] = 1 + 0.2 * -log (1/p1-1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Data[i][1] = 1 + 0.2 * -log (1/p2-1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break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вес и класс i-й точ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Weight[i] = 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Target[i] = 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фическая визуализаци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формировать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D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ILE* chd = fopen ("KernelSmooth.chd","w"); 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создать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CHD-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фай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сформировать разноцветное поле в узлах прямоугольной сет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printf (chd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Include sty.black-white.chd\n"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Slide.Style stySlide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Panel.Style styPanel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NewData x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x2 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y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1 y2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 z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Series X=x1 Y=y1 BX=x2 BY=y2 C=1 G=2 I=z U=40\n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пробежать по прямоугольной сетке, классифицировать каждый узел алгоритмом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CmaMatrix X (MA_DOUBLE, sz[1][2]); 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матрица объектов-призна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CmaMatrix Y (MA_DOUBLE, sz[1]); 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матрица отве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dx = dy = 0.0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or (double x=-2; x&lt;=4; x+=dx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or (double y=-2; y&lt;=4; y+=dy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X[0][0] = x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X[0][1] = y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A.Test (X,Y);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классифицировать точку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нарисовать узел как прямоугольник с центром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(x,y)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,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цветом интенсивности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printf (chd, "%g\t%g\t%g\n", x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-dx/2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x+dx/2, 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y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-dy/2, y+dy/2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, double(Y[0]));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сформировать график точек обучающей выбор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printf (chd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NewData xtr ytr class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"#Series X=xtr Y=ytr C=class\n"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or (i=0; i&lt;L; i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printf (chd, "%g\t%g\t%d\n", double (Data[i][0]),  double(Data[i][1]), int(Target[i])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+1</a:t>
            </a: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fclose (chd);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// график готов – закрыть </a:t>
            </a:r>
            <a:r>
              <a:rPr b="1" lang="en-US" sz="1000" spc="-1" strike="noStrike">
                <a:solidFill>
                  <a:srgbClr val="00cc00"/>
                </a:solidFill>
                <a:latin typeface="Lucida Console"/>
              </a:rPr>
              <a:t>CHD-</a:t>
            </a:r>
            <a:r>
              <a:rPr b="1" lang="ru-RU" sz="1000" spc="-1" strike="noStrike">
                <a:solidFill>
                  <a:srgbClr val="00cc00"/>
                </a:solidFill>
                <a:latin typeface="Lucida Console"/>
              </a:rPr>
              <a:t>фай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ческая визуализация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в результате получ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00360" y="1690560"/>
            <a:ext cx="55242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ирование исходного кода (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h, *.c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аждого класса, структуры, объявления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аждого поля класса, 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аждой функции, каждого аргумента функции, перечень возвращаемых значений и исключительных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 функций: назначение каждого смыслового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ирование алгоритм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.html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.d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алгоритма, границы примен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аждой матрицы-аргумента в каждом методе алгоритм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ности, назначение, входной/вых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аждого параметра: тип, назначение, возможные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ные тесты: как их запускать, что должно быть на вых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ое описание алгорит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 приме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литерату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находитс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прилагаемом архив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Smo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приложения, фрагменты которого использовались в этой презентации (метод сглаживания), с исходными к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aredMatrixView (утилита для просмотра матр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om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блиотека компонентов матричных алгоритм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еская библиоте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om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для её регист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h, *.cp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ы, необходимые для обращения к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tLi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библиотека деловой и научной граф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яемые моду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Problem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бор 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ельных задач класс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 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горитмы обучения по прецедентам как матричные преобразов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объектно-ориентированного програм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ная структура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ый клас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aMar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адка: утили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MatrixVi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ирование и экспер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нерация моде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ь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ческая визуализация: библиоте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t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ный к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буч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in: Data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×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, Weigh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, Targe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ина обучающей выбор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 призна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рица данных (объекты-призна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igh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тор весов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евой 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: Data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×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 → Targe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ина контрольной выбор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ализация алгоритмов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ОП-под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ное использование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реализацию от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тестирование от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пользователя от разрабо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вычисления от передачи д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ить вычисления от визу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вместная раз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говориться 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дульности и интерфей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делать свой код понятным для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ить дублирование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я алгоритмов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ульная структура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60640"/>
            <a:ext cx="863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844640"/>
            <a:ext cx="2521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960640"/>
            <a:ext cx="863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2960640"/>
            <a:ext cx="971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ar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40766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L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40766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R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66920" y="4076640"/>
            <a:ext cx="126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Par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9280" y="4940280"/>
            <a:ext cx="3240000" cy="14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CrossValidator (?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ClassifyerLibrary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IllustrationMake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294920" y="2274840"/>
            <a:ext cx="97308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274840"/>
            <a:ext cx="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2274840"/>
            <a:ext cx="89856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50920" y="339264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339264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84720" y="339264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3392640"/>
            <a:ext cx="611280" cy="1547640"/>
          </a:xfrm>
          <a:custGeom>
            <a:avLst/>
            <a:gdLst/>
            <a:ahLst/>
            <a:rect l="l" t="t" r="r" b="b"/>
            <a:pathLst>
              <a:path w="415" h="975">
                <a:moveTo>
                  <a:pt x="415" y="0"/>
                </a:moveTo>
                <a:cubicBezTo>
                  <a:pt x="237" y="134"/>
                  <a:pt x="60" y="268"/>
                  <a:pt x="30" y="430"/>
                </a:cubicBezTo>
                <a:cubicBezTo>
                  <a:pt x="0" y="592"/>
                  <a:pt x="200" y="884"/>
                  <a:pt x="234" y="9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50920" y="3392640"/>
            <a:ext cx="647640" cy="15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71280" y="3392640"/>
            <a:ext cx="613080" cy="15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92720" y="17352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бстрактный обучаемый алгори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92720" y="28512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ы-наслед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лизующие конкретные алгорит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24360" y="3968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стовые моду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для проверки алгоритмов на модельны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4797360"/>
            <a:ext cx="43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лож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озможно, пока не существующие) д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авнительного анализа алгоритм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я прикладных задач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ки иллюстраций и отчёт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зовый клас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Предок всех методов обучения, абстрактный базовый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lass CLearner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Learner () {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virtual ~CLearner() {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Метод настройки алгорит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virtual int Tra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Features,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L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n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*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Призна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Weight, 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L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*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{ВесаОбъектов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Target 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 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L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 * {ЦелевойПризнак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)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Метод применения алгорит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virtual int Test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Features,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k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n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 * Призна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CmaMatrix &amp;Result  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</a:t>
            </a:r>
            <a:r>
              <a:rPr b="0" i="1" lang="en-US" sz="1500" spc="-1" strike="noStrike">
                <a:solidFill>
                  <a:srgbClr val="00cc00"/>
                </a:solidFill>
                <a:latin typeface="Lucida Console"/>
              </a:rPr>
              <a:t>k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  <a:ea typeface="Arial"/>
              </a:rPr>
              <a:t>×1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cc00"/>
                </a:solidFill>
                <a:latin typeface="Lucida Console"/>
              </a:rPr>
              <a:t>-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матрица Объекты * {ЦелевойПризнак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)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500" spc="-1" strike="noStrike">
                <a:solidFill>
                  <a:srgbClr val="00cc00"/>
                </a:solidFill>
                <a:latin typeface="Lucida Console"/>
              </a:rPr>
              <a:t>// В следующих версиях здесь появятся и не-виртуальные фун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ние и заполнение матр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#include "Learner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onst int L = 100;</a:t>
            </a: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   // длина обучающей выбо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создание матриц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Index sz(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Data   (MA_DOUBLE, sz[L][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Weight (MA_DOUBLE, sz[L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CmaMatrix Target (MA_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YTE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,   sz[L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формирование двумерных моде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for (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nt 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i=0; i&lt;L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формирование </a:t>
            </a:r>
            <a:r>
              <a:rPr b="0" lang="en-US" sz="1600" spc="-1" strike="noStrike">
                <a:solidFill>
                  <a:srgbClr val="00cc00"/>
                </a:solidFill>
                <a:latin typeface="Lucida Console"/>
              </a:rPr>
              <a:t>i-</a:t>
            </a: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й строки матрицы объектов-при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Data[i][0] = -log (double(RAND_MAX)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rand() 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Data[i][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] = -log (double(RAND_MAX)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rand() 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cc00"/>
                </a:solidFill>
                <a:latin typeface="Lucida Console"/>
              </a:rPr>
              <a:t>// вес и класс i-й 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Weight[i] = 1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Target[i] = (Data[i][0]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gt;0.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? 1 : 0</a:t>
            </a:r>
            <a:r>
              <a:rPr b="0" lang="ru-RU" sz="1600" spc="-1" strike="noStrike">
                <a:solidFill>
                  <a:srgbClr val="000000"/>
                </a:solidFill>
                <a:latin typeface="Lucida Console"/>
              </a:rPr>
              <a:t>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матр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создание и обучение алгоритма – наследника класса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CLea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CKernelSmoothing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передача сформированных матриц алгорит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A.Train (Data, Weight, Target);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cc00"/>
                </a:solidFill>
                <a:latin typeface="Lucida Console"/>
              </a:rPr>
              <a:t>// А что с ними будет делать метод </a:t>
            </a:r>
            <a:r>
              <a:rPr b="1" lang="en-US" sz="1400" spc="-1" strike="noStrike">
                <a:solidFill>
                  <a:srgbClr val="00cc00"/>
                </a:solidFill>
                <a:latin typeface="Lucida Console"/>
              </a:rPr>
              <a:t>Train</a:t>
            </a:r>
            <a:r>
              <a:rPr b="1" lang="ru-RU" sz="1400" spc="-1" strike="noStrike">
                <a:solidFill>
                  <a:srgbClr val="00cc00"/>
                </a:solidFill>
                <a:latin typeface="Lucida Console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сперва узнает размеры матр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int L =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ata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.Size(0);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  // длина обучающей выбо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int n =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ata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.Size(1);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  // число призна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далее работает с ними, как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c 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обычными массивами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double[] 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или 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double[][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double RR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for (int j=0; j&lt;n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RR +=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fabs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ata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1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][j] -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Data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[i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][j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но кое-чего делать нельз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Result[i] = Result[i] + sumW;</a:t>
            </a:r>
            <a:r>
              <a:rPr b="0" lang="en-US" sz="1400" spc="-1" strike="noStrike">
                <a:solidFill>
                  <a:srgbClr val="00cc00"/>
                </a:solidFill>
                <a:latin typeface="Lucida Console"/>
              </a:rPr>
              <a:t>   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  // нельзя: </a:t>
            </a:r>
            <a:r>
              <a:rPr b="1" lang="en-US" sz="1400" spc="-1" strike="noStrike">
                <a:solidFill>
                  <a:srgbClr val="ff3300"/>
                </a:solidFill>
                <a:latin typeface="Lucida Console"/>
              </a:rPr>
              <a:t>Result[i] += sum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Result[i] = </a:t>
            </a:r>
            <a:r>
              <a:rPr b="0" lang="en-US" sz="1400" spc="-1" strike="noStrike">
                <a:solidFill>
                  <a:srgbClr val="0066ff"/>
                </a:solidFill>
                <a:latin typeface="Lucida Console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(Target[i1]);  </a:t>
            </a: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нельзя:</a:t>
            </a:r>
            <a:r>
              <a:rPr b="1" lang="ru-RU" sz="1400" spc="-1" strike="noStrike">
                <a:solidFill>
                  <a:srgbClr val="ff33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Lucida Console"/>
              </a:rPr>
              <a:t>Result[i] = Target[i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Lucida Console"/>
              </a:rPr>
              <a:t>// иногда требуется явное преобразование ти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fprintf (chd, "%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\t%d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\n", </a:t>
            </a:r>
            <a:r>
              <a:rPr b="0" lang="ru-RU" sz="1400" spc="-1" strike="noStrike">
                <a:solidFill>
                  <a:srgbClr val="0066ff"/>
                </a:solidFill>
                <a:latin typeface="Lucida Console"/>
              </a:rPr>
              <a:t>double</a:t>
            </a:r>
            <a:r>
              <a:rPr b="0" lang="en-US" sz="1400" spc="-1" strike="noStrike">
                <a:solidFill>
                  <a:srgbClr val="0066ff"/>
                </a:solidFill>
                <a:latin typeface="Lucida Conso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(Data[i][0]), </a:t>
            </a:r>
            <a:r>
              <a:rPr b="0" lang="en-US" sz="1400" spc="-1" strike="noStrike">
                <a:solidFill>
                  <a:srgbClr val="0066ff"/>
                </a:solidFill>
                <a:latin typeface="Lucida Console"/>
              </a:rPr>
              <a:t>in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Target[i]) </a:t>
            </a:r>
            <a:r>
              <a:rPr b="0" lang="ru-RU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матриц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дим преиму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280" y="1628640"/>
            <a:ext cx="8533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maMatrix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же реализо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нужды изобретать велосипе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о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maMatrix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ьзоваться лег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maMatri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зят из промышленной библиотеки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ecsys maCo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и имеет богатую функционально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ы можно просматривать прямо во время отлад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ы можно  сохранять в файлы и загружать из фай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н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Matrix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матрицы, блочные, разреж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ивается обработка пустых (пропущенных)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ногое друго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0:39:45Z</dcterms:created>
  <dc:creator>Voron</dc:creator>
  <dc:description/>
  <dc:language>en-US</dc:language>
  <cp:lastModifiedBy>Воронцов</cp:lastModifiedBy>
  <dcterms:modified xsi:type="dcterms:W3CDTF">2007-05-03T07:08:25Z</dcterms:modified>
  <cp:revision>20</cp:revision>
  <dc:subject/>
  <dc:title>Практикум Вычислительные методы  распознавания и прогнозирования</dc:title>
</cp:coreProperties>
</file>